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8A15-F28A-43D5-BF5E-FAB6CC9D72A9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857F-8838-4009-82A5-1A4CC962DF1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3EC0-78CC-41EC-A593-59562D22958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092B-F7D3-4A49-9584-3A165746532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593E-5D1D-46CA-BD3E-A7F638EEA9C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352C-3FAD-4807-B8AA-551A0EA63D1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D2ED-BFAA-4471-BA66-1A15E50D825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9C59-AD5D-4581-A58C-294848C04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E9C8-3FCE-4A85-8263-9124051C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B2A9-DDB3-421B-82A0-A6B744764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DFCC-4815-42ED-A5BF-951F34931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5B24-3D73-4EEF-8F9D-9F8639318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5CFD-BCA2-4D0B-AF0A-8907537E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AFB1-69EC-42B8-9E07-4A8EF89F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7FAA-DDD6-4CFE-B9CA-8B7ED5EF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E41F-C4B2-4846-BEC5-3D0AF9A6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67A1-6F2F-4189-A882-1A9BDD63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58F0-AECC-4BF2-82B3-BA6D882E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8142-B4E8-4130-92C2-AC60A378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F72F-FDA6-45DB-A609-347B6C60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4EC7-D847-484D-8EE5-7BB09D70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2B6A-D65D-4472-BA29-350B8FC0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9DA4-A7E6-40E1-B2F8-B4A69AC62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FAC3-A4D6-4683-8CFF-4FBB8CC9D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1305-9425-4678-B5FD-E92EC48F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0CF1-CC2A-4EC0-9C8A-02699805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7A46-665A-4B2E-9A0E-903E1F64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524A-8676-4D8F-AA04-D545436F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6317-4021-4D06-94C8-7860EE99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9613-C90F-46A0-8665-F1EC3DD7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1C6C-13C0-46A1-B068-80EDEB44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1EC2-C7FF-4AD9-8616-EA28E017995E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137E-8715-4EEB-9625-BE5EBF955418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8. – 9. KLASES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6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1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789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0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08:46:05Z</dcterms:modified>
  <cp:revision>349</cp:revision>
  <dc:subject/>
  <dc:title>Slide 1</dc:title>
</cp:coreProperties>
</file>